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B05B-B1A6-4A7E-9882-3D4F8C0F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D80B-BDF0-4A7B-8D13-C35158C9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D42C-5CFB-4462-BCDA-870F37F5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C1FE-B9C8-4439-AE9F-04467CD3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C1545-EF55-4860-A5D6-209A03A1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C2984-EE21-43C2-8DB5-58BC2227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CD7FD-A6B2-4BEF-B24B-8B0D50FE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24FF0-F839-46D8-8C91-9CA58DEF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F04F6-D0FC-43E6-AF98-FAA37DED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2B7C2-5C11-467B-8479-624964D7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68B7A-285F-4C24-B46D-1C284C1A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07D8-5C22-48F8-9AEE-5BC55E3F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00A3B-F610-43B6-A838-74386279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8B6D1-4567-4049-9BE7-6450BCD1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F7A4E-146A-44ED-B282-BE73889F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39E7B-CB9F-4A27-A6BD-3DA78AD7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D8B0C-5BF2-4690-871F-895E73F5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C322-99F9-466C-8517-077D5CE7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0069-BCFD-417A-9186-F2B2D6C0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CD66-50F6-451F-BC49-88715AAA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4C32-9651-465A-BD2F-69E27CEB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A516-F066-4E3A-ADC4-BC28B20B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1A59-E9D9-4AEC-9E2A-52BE76BB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E4FD-CDD1-41F8-9ECD-95C21726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281C-1A13-4790-B354-000FD87932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FCBD-43BA-4A92-BBC2-C1919162EF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utroph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58669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.R. Hawkin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University of Rhode Islan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all 20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eutrophication?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form of waste pol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substances rich in nitrogen and phosphorus (such as fertilizers, animal waste and sewage) flow into the wa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s extensive algae grow (algal bloom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are algal blooms ba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gae use up all of the oxygen during its rapid growth and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ffocates all of the the other animals, causing anoxic conditions in the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h 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cks sunlight from other plant species to grow, such as eelgras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3520" y="581040"/>
            <a:ext cx="783576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0:28:18Z</dcterms:created>
  <dc:creator>Mona Florea</dc:creator>
  <dc:description/>
  <dc:language>en-US</dc:language>
  <cp:lastModifiedBy>Mona Florea</cp:lastModifiedBy>
  <dcterms:modified xsi:type="dcterms:W3CDTF">2009-12-14T00:38:53Z</dcterms:modified>
  <cp:revision>1</cp:revision>
  <dc:subject/>
  <dc:title>Eutrophication</dc:title>
</cp:coreProperties>
</file>